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ACAB-13EF-4F30-9730-98E94BC324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point – do the people below justify the fame, money and status they enjo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some deser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oth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point – do the people below justify the fame, money and status they enjo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some deserv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than oth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hould there be a maxim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ge, for instance, for everyon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stars includ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Do all such stars have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uine talent that no-one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Should there be a maxim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ge, for instance, for everyon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 stars includ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Do all such stars have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uine talent that no-one e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star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be left alone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joy their n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have they,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ing famou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up the right to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vacy that you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take for gran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f they know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in the 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, should they be aware of how their behaviour might influence fa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uld stars 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be left alone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joy their nigh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have they, b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oming famou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n up the right to t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vacy that you a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take for gran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if they know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in the publ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ye, should they be aware of how their behaviour might influence fa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movie ratings? Can you name the 5 different ratings films must be given before they can be shown to the general public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movie is given one of these categories, what does it mean is contained within the fil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bout movie ratings? Can you name the 5 different ratings films must be given before they can be shown to the general publ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a movie is given one of these categories, what does it mean is contained within the fil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061-9831-41A1-90A7-8B9D50CB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0310-4B7D-4FC2-8A48-C119B9A4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17B4-22F2-4B3A-B954-34F0E041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7FC-EDCF-4B0E-AE52-55BAF102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E7CD-8774-4459-B65F-E43E7555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D25-10C6-40D7-B854-C4CBA6DE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8AC6-FF0C-4773-A576-1E8F85E2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C88-17AE-458D-A1EE-451C9971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E00-FCCF-4820-B3B9-51714FA4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8734-3992-4A72-BEF4-05AFACEE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A058-F7C4-41F0-82D3-94B0E47C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196-132F-455A-A392-D330A3D3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C9C1-A5D5-4641-8B57-BF284113A58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-316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mrlogo"/>
          <p:cNvPicPr/>
          <p:nvPr/>
        </p:nvPicPr>
        <p:blipFill>
          <a:blip r:embed="rId1"/>
          <a:stretch/>
        </p:blipFill>
        <p:spPr>
          <a:xfrm>
            <a:off x="1403280" y="1413000"/>
            <a:ext cx="6624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iscussion poin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– do the people below justify the fame, money and status they enj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 some deser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re than oth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michael_jackson"/>
          <p:cNvPicPr/>
          <p:nvPr/>
        </p:nvPicPr>
        <p:blipFill>
          <a:blip r:embed="rId1"/>
          <a:stretch/>
        </p:blipFill>
        <p:spPr>
          <a:xfrm>
            <a:off x="6659640" y="5013360"/>
            <a:ext cx="2225520" cy="166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Beyonce%20Knowles_19"/>
          <p:cNvPicPr/>
          <p:nvPr/>
        </p:nvPicPr>
        <p:blipFill>
          <a:blip r:embed="rId2"/>
          <a:stretch/>
        </p:blipFill>
        <p:spPr>
          <a:xfrm>
            <a:off x="2987640" y="4221000"/>
            <a:ext cx="3311640" cy="2482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hristina_aguilera_300x400"/>
          <p:cNvPicPr/>
          <p:nvPr/>
        </p:nvPicPr>
        <p:blipFill>
          <a:blip r:embed="rId3"/>
          <a:stretch/>
        </p:blipFill>
        <p:spPr>
          <a:xfrm>
            <a:off x="7020000" y="292428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nirvana"/>
          <p:cNvPicPr/>
          <p:nvPr/>
        </p:nvPicPr>
        <p:blipFill>
          <a:blip r:embed="rId4"/>
          <a:stretch/>
        </p:blipFill>
        <p:spPr>
          <a:xfrm>
            <a:off x="539640" y="3860640"/>
            <a:ext cx="2173320" cy="282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e_arcticmonkeys_wideweb__470x352,2"/>
          <p:cNvPicPr/>
          <p:nvPr/>
        </p:nvPicPr>
        <p:blipFill>
          <a:blip r:embed="rId5"/>
          <a:stretch/>
        </p:blipFill>
        <p:spPr>
          <a:xfrm>
            <a:off x="3492360" y="2205000"/>
            <a:ext cx="24480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there be a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aximum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ag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for instance, for everyo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g stars includ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* Do all such stars have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enuine talent that no-one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PiratesCaribbean2_322x200"/>
          <p:cNvPicPr/>
          <p:nvPr/>
        </p:nvPicPr>
        <p:blipFill>
          <a:blip r:embed="rId1"/>
          <a:stretch/>
        </p:blipFill>
        <p:spPr>
          <a:xfrm>
            <a:off x="4716360" y="4508640"/>
            <a:ext cx="3598920" cy="2235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ol-free-movies"/>
          <p:cNvPicPr/>
          <p:nvPr/>
        </p:nvPicPr>
        <p:blipFill>
          <a:blip r:embed="rId2"/>
          <a:stretch/>
        </p:blipFill>
        <p:spPr>
          <a:xfrm>
            <a:off x="324000" y="1557360"/>
            <a:ext cx="34383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25236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stars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se be left alon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joy their nigh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 have they, 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coming famou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iven up the right to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ivacy that you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 take for gran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f they know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y are in the 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ye, should they be aware of how their behaviour might influence fa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_lll3"/>
          <p:cNvPicPr/>
          <p:nvPr/>
        </p:nvPicPr>
        <p:blipFill>
          <a:blip r:embed="rId1"/>
          <a:stretch/>
        </p:blipFill>
        <p:spPr>
          <a:xfrm>
            <a:off x="3708360" y="1484280"/>
            <a:ext cx="5238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about movie ratings? Can you name the 5 different ratings films must be given before they can be shown to the general publi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movie is given one of these categories, what does it mean is contained within the fil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happyfeet3"/>
          <p:cNvPicPr/>
          <p:nvPr/>
        </p:nvPicPr>
        <p:blipFill>
          <a:blip r:embed="rId1"/>
          <a:stretch/>
        </p:blipFill>
        <p:spPr>
          <a:xfrm>
            <a:off x="5435640" y="2997360"/>
            <a:ext cx="354312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PGcert"/>
          <p:cNvPicPr/>
          <p:nvPr/>
        </p:nvPicPr>
        <p:blipFill>
          <a:blip r:embed="rId2"/>
          <a:stretch/>
        </p:blipFill>
        <p:spPr>
          <a:xfrm>
            <a:off x="3203640" y="3213000"/>
            <a:ext cx="2066760" cy="1495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cert_15large"/>
          <p:cNvPicPr/>
          <p:nvPr/>
        </p:nvPicPr>
        <p:blipFill>
          <a:blip r:embed="rId3"/>
          <a:stretch/>
        </p:blipFill>
        <p:spPr>
          <a:xfrm>
            <a:off x="6300720" y="551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JasonComic1"/>
          <p:cNvPicPr/>
          <p:nvPr/>
        </p:nvPicPr>
        <p:blipFill>
          <a:blip r:embed="rId4"/>
          <a:stretch/>
        </p:blipFill>
        <p:spPr>
          <a:xfrm>
            <a:off x="1619280" y="2924280"/>
            <a:ext cx="143028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H_cert"/>
          <p:cNvPicPr/>
          <p:nvPr/>
        </p:nvPicPr>
        <p:blipFill>
          <a:blip r:embed="rId1"/>
          <a:stretch/>
        </p:blipFill>
        <p:spPr>
          <a:xfrm>
            <a:off x="2195640" y="2708280"/>
            <a:ext cx="5124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7:18:45Z</dcterms:created>
  <dc:creator>mikecowley</dc:creator>
  <dc:description/>
  <dc:language>en-US</dc:language>
  <cp:lastModifiedBy>RomaK</cp:lastModifiedBy>
  <dcterms:modified xsi:type="dcterms:W3CDTF">2015-09-02T09:55:09Z</dcterms:modified>
  <cp:revision>4</cp:revision>
  <dc:subject/>
  <dc:title>Pop Music and Movies</dc:title>
</cp:coreProperties>
</file>